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whoosh.wav" ContentType="audio/x-wav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type.wav" ContentType="audio/x-wav"/>
  <Override PartName="/ppt/media/image15.jpeg" ContentType="image/jpeg"/>
  <Override PartName="/ppt/media/image17.jpeg" ContentType="image/jpeg"/>
  <Override PartName="/ppt/media/camera.wav" ContentType="audio/x-wav"/>
  <Override PartName="/ppt/media/image16.jpeg" ContentType="image/jpeg"/>
  <Override PartName="/ppt/media/image1.png" ContentType="image/png"/>
  <Override PartName="/ppt/media/carbrake.wav" ContentType="audio/x-wav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6327-72F6-4235-9D51-3BB2DDD6ED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ЧУЛКОВ НИКОЛАЙ АЛЕКСАНДР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т.н, доцент кафе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и и безопасности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БЖ) ЭЛТИ ТПУ    137 ауд. 8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850C-D380-45AA-AE0C-B9317BE91251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FD1D-55D7-4B70-972B-640F75148AB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экология – изучает взаимодействие со средой отдельных особей или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онная экология (демоэкология) – изучает структуру и динамику популя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A984-B7EE-4E0A-AB75-D41D7A3D500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реды, местообитания организмов: экология суши, моря, оз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– взаимодействие антропосистемы 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48D1-14A8-47C5-937C-017B9A8A006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заимоотношений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A234-7079-416C-B17D-2D75DAA8E502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ап охотничества-со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человека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у незнач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г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гона и ловли д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ы, раз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х сооб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днение видов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а крупных позвон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6C38-5624-4F7B-A5F3-540B3D7DFC3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тап аграр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ство и земле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результа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реме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орудий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ждение процесса урб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1485-FEC3-499A-8D22-1290BDA83E1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 развивалось по схем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б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 сельскохозяйственных культ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F345-0B07-4D0C-AF2F-6C468DADEB0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7677-A2B4-4FF7-AD63-BAE02716EAC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ап индустриаль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в. Зарождение и 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ятся города, повышается уровень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5D3-4E94-44A4-841B-EF19BC2D3451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ий рост населения – 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руговорота веществ (отходы не минерализуютс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отребления энергии – 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435A-D333-45F7-ACCD-745F1A9851F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, 186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= наука о д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EF4F-DBB9-411B-82CA-1A09D43A2B6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оциального обмена веществ 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9458-E9CF-48E7-A57A-935FB31B014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 человека добывается 20 т сырья, перерабатывается в продукты 2 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0 % сырья идет в от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ружающую среду выбрасываются продукты, чуждые природе, РАВ, теп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D4DB-FE76-49F7-AA65-9B8867AF9771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адия взаимодействия между обществом и природой, на ко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2FC2-5FB7-4F81-A8DD-FA7C1D427B8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энерг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озонового сл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5090-B54E-423A-B219-1A187904C93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удет сопровождать человека все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9ADB-F592-4B60-95AF-C68A81910C9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тановить стихийное развитие событий помогут лишь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6F59-2281-4C97-BBEE-BA04D40E473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9FF8-5CBB-40C7-BDAB-0C257379F00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Зарождение и становление экологии как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0-х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BFA0-B716-4064-B534-6FE16349DDE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истотель (384–322 г.г. до н.э.). «История животных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офраст (372–287 г.г.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тория растени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инней (1707–1778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амарк (1744–1829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. Мальтус (1766–1834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409A-59A6-4D8F-92B2-F5B84A32FA4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формление экологии в самостоятельную отрасль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-е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. Дарви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1809–188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 основные факторы эволюции органического ми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59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видов путем естественного отбора…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7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027B-EFF3-46B0-9DAE-54118339588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. Докуча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(1846–190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новоположник почв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Шелфорд, Ч. Ада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Тенсли, 1935 г. –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 Сукачев, 1940 г. - биогеоцено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A029-4236-4D41-8054-ACCAE8A1562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– до настояще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Одум, Б. Небел, Н.Н. Моисеев, Н.Ф. Рейме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A536-B5D5-4787-B53D-7E7A949C047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ценоз – совокупность живых организмов (растения, животные, микроорганиз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3FCB-E167-4AFA-BCE0-FE1C1B725C8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вязанные между собой обменом веществ и 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оценоз – природные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9D3E-263F-4678-9CE4-5A1DEF2A90B0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386-C83A-48F1-B5F6-3D1A788C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5DB-3828-40BF-BB32-1B285C26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A71-CFFC-42DC-BF97-FDDEAB3B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D0F-065B-4416-A763-A0F2ACC3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6CEC-6E0C-4F56-9658-E5EFEEF3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CFE6-7075-4C34-9F9D-5843E7E4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5D6C-0061-4155-AD85-C0196DAA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7343-C0E5-4BBF-A11D-86E41887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FFC7-5505-4105-BA28-4CA9E4AC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3600-9659-45F8-937A-50C7BA4B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524A-339D-4AD0-9312-D3DF0507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481-C4EF-4076-BA90-6E743D10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BE3B-9819-44C1-8C26-5557C289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EBC0-3212-40B8-B436-FDB55138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3850-77A7-44E4-9A7F-81E10C6A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3CED-EAFA-45C6-8BEA-26B156B4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C746-2CCD-4EA1-BF79-9AD4A6DE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4EB-E48F-4F0E-B0BB-00EB02B0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43B-82A8-470E-83DC-6FAD8A8E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41A-7A4A-4C4E-B28D-1F556E97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204-1951-4574-9FAB-B9EC8EE1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F6D-A364-4AF3-B780-2F165114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286-DCD8-477C-B23C-AC4635FE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CB2-8C53-4F02-94A5-D913497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6A15-283A-43FB-89FC-8A43E3C7F6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5CE8-753D-42A3-A9AF-EF5EA1A81572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11440"/>
            <a:ext cx="64008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ЭКОЛОГИЯ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051000"/>
            <a:ext cx="7315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ЧУЛКОВ НИКОЛАЙ АЛЕКСАНДРОВИ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.т.н, доцент кафедры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и и безопасности жизнедеятельности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(ЭБЖ) ЭЛТИ ТПУ    137 ауд. 8 к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earthspin"/>
          <p:cNvPicPr/>
          <p:nvPr/>
        </p:nvPicPr>
        <p:blipFill>
          <a:blip r:embed="rId1"/>
          <a:stretch/>
        </p:blipFill>
        <p:spPr>
          <a:xfrm>
            <a:off x="7086600" y="446040"/>
            <a:ext cx="1562040" cy="15638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труктура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утэкология – изучает взаимодействие со средой отдельных особей или видо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пуляционная экология (демоэкология) – изучает структуру и динамику популяций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лассификац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среды, местообитания организмов: экология суши, моря, озер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я человека – взаимодействие антропосистемы и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тапы взаимоотношений человека и природ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челове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4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4" descr="1_34"/>
          <p:cNvPicPr/>
          <p:nvPr/>
        </p:nvPicPr>
        <p:blipFill>
          <a:blip r:embed="rId3"/>
          <a:stretch/>
        </p:blipFill>
        <p:spPr>
          <a:xfrm>
            <a:off x="1523880" y="3276720"/>
            <a:ext cx="5562720" cy="3033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. Этап охотничества-собиратель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лияние человека н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реду незначительно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пользование огн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ля загона и ловли дич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жары, разрушение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стительных сообществ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еднение видового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става крупных позвоночны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Picture 4" descr="1_36_1"/>
          <p:cNvPicPr/>
          <p:nvPr/>
        </p:nvPicPr>
        <p:blipFill>
          <a:blip r:embed="rId4"/>
          <a:stretch/>
        </p:blipFill>
        <p:spPr>
          <a:xfrm>
            <a:off x="5343480" y="762120"/>
            <a:ext cx="3513240" cy="48765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. Этап аграр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товодство и земледел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ожительный результат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величение численности насе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озникновение ремесе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овершенствование орудий тру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рождение процесса урбанизаци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Picture 4" descr="1_37"/>
          <p:cNvPicPr/>
          <p:nvPr/>
        </p:nvPicPr>
        <p:blipFill>
          <a:blip r:embed="rId4"/>
          <a:stretch/>
        </p:blipFill>
        <p:spPr>
          <a:xfrm>
            <a:off x="5334120" y="1297080"/>
            <a:ext cx="3306600" cy="217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Ris8"/>
          <p:cNvPicPr/>
          <p:nvPr/>
        </p:nvPicPr>
        <p:blipFill>
          <a:blip r:embed="rId5"/>
          <a:stretch/>
        </p:blipFill>
        <p:spPr>
          <a:xfrm>
            <a:off x="457200" y="1295280"/>
            <a:ext cx="4038480" cy="164808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ельское хозяйство развивалось по схеме: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ле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астбище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я сельскохозяйственных культур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→ 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пусты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fon07"/>
          <p:cNvPicPr/>
          <p:nvPr/>
        </p:nvPicPr>
        <p:blipFill>
          <a:blip r:embed="rId3"/>
          <a:stretch/>
        </p:blipFill>
        <p:spPr>
          <a:xfrm>
            <a:off x="6629400" y="49719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3. Этап индустриаль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 в. Зарождение и развитие промышленност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оятся города, повышается уровень жизни люде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Picture 5" descr="D10"/>
          <p:cNvPicPr/>
          <p:nvPr/>
        </p:nvPicPr>
        <p:blipFill>
          <a:blip r:embed="rId3"/>
          <a:stretch/>
        </p:blipFill>
        <p:spPr>
          <a:xfrm>
            <a:off x="4952880" y="396252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D01"/>
          <p:cNvPicPr/>
          <p:nvPr/>
        </p:nvPicPr>
        <p:blipFill>
          <a:blip r:embed="rId4"/>
          <a:stretch/>
        </p:blipFill>
        <p:spPr>
          <a:xfrm>
            <a:off x="838080" y="39625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зкий рост населения – демографический взры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рушение круговорота веществ (отходы не минерализуются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ост потребления энергии – нехватка энерго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. Геккель, 1866 г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= наука о доме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хема социального обмена веществ и энер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914400" y="1981080"/>
            <a:ext cx="7238880" cy="4178160"/>
            <a:chOff x="914400" y="1981080"/>
            <a:chExt cx="7238880" cy="4178160"/>
          </a:xfrm>
        </p:grpSpPr>
        <p:sp>
          <p:nvSpPr>
            <p:cNvPr id="284" name="Rectangle 4"/>
            <p:cNvSpPr/>
            <p:nvPr/>
          </p:nvSpPr>
          <p:spPr>
            <a:xfrm>
              <a:off x="3156120" y="1981080"/>
              <a:ext cx="237456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3287880" y="2168640"/>
              <a:ext cx="2111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58c"/>
                  </a:solidFill>
                  <a:latin typeface="Times New Roman"/>
                </a:rPr>
                <a:t>общество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Text Box 6"/>
            <p:cNvSpPr/>
            <p:nvPr/>
          </p:nvSpPr>
          <p:spPr>
            <a:xfrm>
              <a:off x="914400" y="3478320"/>
              <a:ext cx="14508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захват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2438280" y="3505320"/>
              <a:ext cx="2057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переработк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4648320" y="3478320"/>
              <a:ext cx="16002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усво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6321600" y="3478320"/>
              <a:ext cx="183168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выдел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4343400" y="27288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573200" y="3103560"/>
              <a:ext cx="540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57320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34196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539892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69818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1046160" y="4973760"/>
              <a:ext cx="6726240" cy="11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 flipV="1">
              <a:off x="11779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 flipV="1">
              <a:off x="14414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21016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Line 20"/>
            <p:cNvSpPr/>
            <p:nvPr/>
          </p:nvSpPr>
          <p:spPr>
            <a:xfrm flipV="1">
              <a:off x="28926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 flipV="1">
              <a:off x="3156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Line 22"/>
            <p:cNvSpPr/>
            <p:nvPr/>
          </p:nvSpPr>
          <p:spPr>
            <a:xfrm flipV="1">
              <a:off x="50022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 flipV="1">
              <a:off x="526716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 flipV="1">
              <a:off x="6585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 flipV="1">
              <a:off x="68486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Line 26"/>
            <p:cNvSpPr/>
            <p:nvPr/>
          </p:nvSpPr>
          <p:spPr>
            <a:xfrm>
              <a:off x="40798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592596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8" name="Line 28"/>
            <p:cNvSpPr/>
            <p:nvPr/>
          </p:nvSpPr>
          <p:spPr>
            <a:xfrm>
              <a:off x="737712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9" name="AutoShape 29"/>
            <p:cNvSpPr/>
            <p:nvPr/>
          </p:nvSpPr>
          <p:spPr>
            <a:xfrm rot="5400000">
              <a:off x="172476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0" name="AutoShape 30"/>
            <p:cNvSpPr/>
            <p:nvPr/>
          </p:nvSpPr>
          <p:spPr>
            <a:xfrm rot="5400000">
              <a:off x="370584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AutoShape 31"/>
            <p:cNvSpPr/>
            <p:nvPr/>
          </p:nvSpPr>
          <p:spPr>
            <a:xfrm rot="5400000">
              <a:off x="5551920" y="5083920"/>
              <a:ext cx="747720" cy="52740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400"/>
                <a:gd name="textAreaBottom" fmla="*/ 395640 h 5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 rot="5400000">
              <a:off x="700308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2971800" y="56386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П р и р о д 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1 человека добывается 20 т сырья, перерабатывается в продукты 2 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коло 90 % сырья идет в отход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окружающую среду выбрасываются продукты, чуждые природе, РАВ, тепл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18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кологический кризи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о стадия взаимодействия между обществом и природой, на котор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временные проблемы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мографическая пробл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тощение природных 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энерге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грязнение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рушение озонового сло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 и др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здоровья чело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н будет сопровождать человека всегда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02"/>
          <p:cNvPicPr/>
          <p:nvPr/>
        </p:nvPicPr>
        <p:blipFill>
          <a:blip r:embed="rId1"/>
          <a:stretch/>
        </p:blipFill>
        <p:spPr>
          <a:xfrm>
            <a:off x="228600" y="228600"/>
            <a:ext cx="3987720" cy="2990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D08"/>
          <p:cNvPicPr/>
          <p:nvPr/>
        </p:nvPicPr>
        <p:blipFill>
          <a:blip r:embed="rId2"/>
          <a:stretch/>
        </p:blipFill>
        <p:spPr>
          <a:xfrm>
            <a:off x="4648320" y="8380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1720_03"/>
          <p:cNvPicPr/>
          <p:nvPr/>
        </p:nvPicPr>
        <p:blipFill>
          <a:blip r:embed="rId3"/>
          <a:stretch/>
        </p:blipFill>
        <p:spPr>
          <a:xfrm>
            <a:off x="914400" y="2971800"/>
            <a:ext cx="5334120" cy="35593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rainbow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895480" y="44956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тановить стихийное развитие событий помогут лишь зн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moos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304920" y="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spring_pl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0" y="0"/>
            <a:ext cx="5410080" cy="1936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цепция устойчив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ференция ООН по окружающей среде и развити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ио-де-Жанейро, 1992 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952880" y="5122800"/>
            <a:ext cx="4191120" cy="17460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разрывность эколого-экономических связ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рмония между Обществом и природо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рия развит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 этап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1. Зарождение и становление экологии как нау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60-х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Аристотель (384–322 г.г. до н.э.). «История животных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еофраст (372–287 г.г. до н.э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«История растений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инней (1707–1778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Ж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Б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амарк (1744–1829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. Мальтус (1766–1834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2. Оформление экологии в самостоятельную отрасль знан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60-е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. Дарвин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1809–1882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пределил основные факторы эволюции органического мир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59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видов путем естественного отбора…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71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человека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В. Докучае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1846–1903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– основоположник почвовед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. Геккел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Шелфорд, Ч. Адам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И. Вернадск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.Тенсли, 1935 г. – экосист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Н. Сукачев, 1940 г. - биогеоценоз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– до настоящего време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. Одум, Б. Небел, Н.Н. Моисеев, Н.Ф. Реймер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4" descr="1259_02"/>
          <p:cNvPicPr/>
          <p:nvPr/>
        </p:nvPicPr>
        <p:blipFill>
          <a:blip r:embed="rId4"/>
          <a:stretch/>
        </p:blipFill>
        <p:spPr>
          <a:xfrm>
            <a:off x="6629400" y="304920"/>
            <a:ext cx="2209680" cy="1474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Picture 7" descr="WFALL"/>
          <p:cNvPicPr/>
          <p:nvPr/>
        </p:nvPicPr>
        <p:blipFill>
          <a:blip r:embed="rId5"/>
          <a:stretch/>
        </p:blipFill>
        <p:spPr>
          <a:xfrm>
            <a:off x="380880" y="0"/>
            <a:ext cx="2971800" cy="15177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ценоз – совокупность живых организмов (растения, животные, микроорганизмы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система = биоценоз + биото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связанные между собой обменом веществ и энергии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геоценоз – природные экосистем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8:04Z</dcterms:modified>
  <cp:revision>12</cp:revision>
  <dc:subject/>
  <dc:title>PowerPoint Presentation</dc:title>
</cp:coreProperties>
</file>